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4259-D8CF-4604-84E0-D4710529B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D9D5-46AD-4885-B366-52D8A8B8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654C-4B21-46DA-8253-56FD05354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714C-CDA5-494A-90FD-F850661C0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12D9-0F35-4DEB-AC78-1467244A4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368F-BBA2-4760-8539-8BC00632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362A-D2B5-4940-A560-3768BD86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1173-5311-4AB7-9071-9F6F5676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0DFB-52C5-42CC-9854-4C9329D4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7F1C-D8D7-4A6D-BA6D-6E63162D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B917-7670-4F43-9275-D852CC6E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CEE9-8D12-42ED-8120-56B55BB8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AA7A1-4F8E-4CB7-A894-B1C69C6E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A48F-DAC6-4A79-8A58-E24E3186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7034-633C-4BE3-AEFE-8B7ACDB8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D50C-3A97-4312-A6D1-1B279F6DA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1A32-35C8-43C7-A4EF-E3D1CD133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CC54-98B4-4862-82DD-596FB035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EECE-0543-42B0-9143-8917C25C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11C5-B826-438A-897F-0A7D4E3E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E8AB-3D41-42C8-A92A-3A021F5B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6F7D-8ABA-4320-BEC5-1E327C00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0E4D-CB69-4469-BFC6-C64A488F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1A2F-1ED2-45B2-B1CF-9B44578B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DC9F-88FE-4F56-B12F-D38D9A2BA2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98DA-8BD5-4F32-8E0C-51B0E8ADDC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and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8BE7-919A-46A4-98BA-D055863D8C3E}" type="datetime2"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dnesday, July 29, 2026</a:t>
            </a:fld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udience will know the habitat, food, adaption of the pand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y to personalize the pit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 your ide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am planning for my story to be about pandas and there environment and how rare they are, especially the fact of why they are almost extinct. I will also mention where they originally come from and there foo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siness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y movie is going to play on iMov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y video will be special and different because it’s going to have detai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portant Tip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alk slowly and clearl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e enthusiasti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actice, Practice and Practi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lax and have fun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9:00:44Z</dcterms:created>
  <dc:creator/>
  <dc:description/>
  <dc:language>en-US</dc:language>
  <cp:lastModifiedBy>City School</cp:lastModifiedBy>
  <dcterms:modified xsi:type="dcterms:W3CDTF">2013-02-20T19:23:38Z</dcterms:modified>
  <cp:revision>40</cp:revision>
  <dc:subject/>
  <dc:title>The Pitch-Then-Plan Business Planning Template</dc:title>
</cp:coreProperties>
</file>